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769-C1B0-4608-B276-12CED797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021-32A9-43C4-AA47-4433CE55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647-9A63-4A29-B09B-45EF5970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BB0-D9B0-483A-A0D3-BD50CC1E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BB4-9F28-4823-BBE9-1AC6BB69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EB1-C442-44C4-8495-24F0708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1AE-80B5-4F06-9E23-500F179F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6EA-3DFB-4612-8A85-5FCA1F85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3BF-17C5-409A-A8D4-28AF5A8E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426-AA7E-4DC6-AF4C-F94D29AC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BB3-DA1F-44B3-B14F-334BA5E2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DBD-B48A-44AD-BF1F-B38DD8D1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4AE4B-5105-4F04-B456-6B47ED2B7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FFECTS OF NUCLE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POWER PLAN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ON WATER SUPPL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3600720" cy="234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00720" y="5040360"/>
            <a:ext cx="360036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S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uclear power plants need water, so they use to take 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d to reject it polluted, in riv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uclear power plants make earthquakes, that damage pip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80000" y="4500720"/>
            <a:ext cx="2519280" cy="2339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4bd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DO WE KNOW IF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AS RADIOACTVE WAST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cientists mesur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nt of radioactive was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ent of oxygen dissol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hoto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ikipedia (Pages 1-5-6-7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fmadrid (Page 3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reeinfosociety.com (Page 4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 Routard (Page 7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ravelpod (Page 8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ity of Bron (Page 8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ciencesnaturelles.be (Page 9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eo (Page 10)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INIER Capu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ICHON Chl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OREAU Re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99280" y="3600360"/>
            <a:ext cx="2160720" cy="1596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uclear power plant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w work a nuclear power plant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ench low about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rning! Tsunam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s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w do we know if water has radioactive wast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0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66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UCLEAR POWER PLANT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ach point represents a nuclear power p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979640"/>
            <a:ext cx="512460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W WORK A NUCLEAR POWER PLAN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2874960"/>
            <a:ext cx="684036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RENCH LOW ABOUT POL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fr-FR" sz="26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2001 : Low « Polluter, Paying 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fter many debates, the low was created for people wh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llute water ; it is a 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 Farmers who use fertilizer pay this tax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622680" y="4680000"/>
            <a:ext cx="285732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but nuclear power plants and every nuclear infrastructure, that re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adioactive wastes, don't.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1960" y="4859280"/>
            <a:ext cx="3397320" cy="234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0360" y="539640"/>
            <a:ext cx="357660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so they use to reject too much waste without paying anything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 in reprocessing point of la Hague, wastes are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 the English channel or in air. And because of these rejects, ri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e.Helen that flows just near the site is poll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80000" y="4859280"/>
            <a:ext cx="4137120" cy="251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203040"/>
            <a:ext cx="3780000" cy="2497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uclear power plants and reprocessing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re not the only things which reject radioactive wastes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Hopitals, military camps do it even if simple and cheap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uld stop th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hese don't pay the tax too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160720"/>
            <a:ext cx="1619280" cy="2879640"/>
          </a:xfrm>
          <a:prstGeom prst="triangle">
            <a:avLst>
              <a:gd name="adj" fmla="val 50000"/>
            </a:avLst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9640" y="5040360"/>
            <a:ext cx="2773440" cy="2340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60720" y="411120"/>
            <a:ext cx="3522600" cy="2289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ARNING! TSUNAM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sunami is a problem when nuclear power plants are too near from the s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hem the see come into land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t takes all wastes it find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cluding radioactive wast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nd bring them back in the oce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319640" y="4680000"/>
            <a:ext cx="1979640" cy="262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